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8757-C11E-466F-903A-513593E1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845-5B5A-427D-8C5A-1E08E15E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1B90E-395D-41E3-9759-EBC57884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65FF5-C10F-4516-8A4E-B2FEF1BB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43CE2-EEF9-4673-9E4F-89D16BB4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00F51-30E0-4568-89D2-D26166CF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31755-3FF4-4039-8201-70E99BD3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F9B01-C51E-46E9-8845-E17BC3C8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D9538-F224-4C33-A5C7-492DF133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6603D-6605-41FD-B6DA-B1B384E4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5FCA1-E824-4078-A045-A72C518B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2C3A7-A252-4E03-A17B-87DAEF9F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F699-F39E-488C-93D9-8D93AC38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47CCF-F6AF-4210-9F60-96ABD9C2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D2BAD-3275-4E8C-8C87-099BACDE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77BBF-67C7-43E9-84EF-D8A4D480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A13B2-1090-41FE-B431-37AD9376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B36CB-1351-4DE3-BA59-7220E29C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76B74-99AA-42A0-AF80-51056028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7B4D1-A50E-49D6-BF84-B2F6B374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FAE73-F68D-4F68-A1C9-4CED07AE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3BA19-A9B2-4760-ACFE-46A7E0C6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ABFEC-EBBB-40BC-9050-5E3117C8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FA6-2EBB-45C9-B023-B0DFC20C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00FED-81DE-444A-9C86-BFA8DDD0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1B86D-9E2C-4158-A145-858234CD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5CAEC-A6AB-41C0-8DF5-AC1A755A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19A2E-7E3C-44F3-9CE8-D1685BA3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08A4E-445D-4D83-8D84-289DC3B9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551A1-5221-47EC-86D3-82DD5146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1511F-31DD-4FBA-970C-81C99A90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97D1F-A6BB-4329-A598-D1C6FC08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96442-CF16-40F8-87B0-23DBCFF6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7A1A7-118F-4165-B8B4-48ADA262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8000-2AFB-4DC5-9C15-125C2935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F363E-FA87-4824-A3B8-A0A48C14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753E8-DF3F-4C48-AEED-B84CE9C0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6FB9A-7C7D-48C0-9E03-7CFB415B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857F1-B0EC-485B-948C-A0AB1FD3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6287B-8939-45D4-B01E-82E4BB90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4D303-E302-4BE4-BC53-F5B6D474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DD2CC-CF50-4799-B7E3-379CA972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C5DF0-314D-46FD-9248-2E5E30C8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55A6D-31A4-417D-841E-CAB7BCB8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61E60-387E-4E28-B1F2-8B34C4ED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0AD9-0107-4FA1-8626-B13AC106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BE74E-1B31-4AB8-BADF-19AC22B5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54E63-6113-4C95-A561-F7E356F1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E1017-B87F-48C2-AE33-88EBE50D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729A7-2A62-45BD-9201-DA988C43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A3CA5-6A7A-4C4F-87C6-A1847B67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B8353D-8AC2-4E07-8A81-B6D3AD92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07D82-D8F4-4742-A909-F1E29B7E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8CAE2-36FB-4557-85EC-B22D8425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A054D-5302-42CE-BBFC-05935D8B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F1624-F166-4550-AC36-8925E695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EB95-0520-4065-90A7-E3B84E55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3D83C-CF05-41A1-9249-B518F058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DC899-9DCD-4B0C-9A12-7FF78672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0272B-C2C6-4DF2-92E4-F174E600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825A2-76EE-4E72-A4E6-2FC1690C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1716B-2434-4A05-A1CE-FF462A5A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C4163-03B8-4B6B-BF56-743069BF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B7913-75AF-4DB9-8230-9E89E003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2C3678-7F09-4235-9FC9-017A7223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927829-9368-4BB3-B089-5BB133E8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94C099-55B2-4211-9829-23A5CBFE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D46C-92AE-40CE-B80B-3A989C74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BD9E6F-C5A9-4FB4-BD8B-F1178C87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F2642C-119E-4107-B1AA-43BA09AD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CCB814-58CA-4899-9440-90A268A8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1FA355-2641-40D8-9466-5E8E2A6A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913F1-9E5E-4D0C-AFDE-FB044F74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158A63-3804-49B0-9303-4B4261F1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3E4A04-FAFE-499E-9D8D-0F39A79A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D0892A-E761-440A-9784-2AB2FA41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948095-510B-4C69-9C48-6E5FE898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A03F-1560-4594-A7BB-9BC1726A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FE49-ED7C-41B7-BD20-D24963A3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D5C7-91AD-4550-8BEF-3E284A45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B1E-ADBE-49D1-A974-96E2B1F8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AE13-6828-42DA-A5AE-E1C330A6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5270-2935-440F-A9E6-54E86738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85C0-ABC5-4E8B-ACFC-1C681CA2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3920-B2E3-4D6D-B485-A01E220D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F30C-9534-4ABC-94DD-49C87BCC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B8576-6C7F-44BA-9473-66EEDC8B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641DB-BDBE-4DFE-AA53-0F9BE3D1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D41D4-5390-4A8F-A87E-B45115EB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47AF7-C6B0-4D27-A1F9-C638618C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9512D-F375-4107-AFAA-D1EEDEFF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199-CF19-45DB-AE96-1B4FC8A3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5D163-CFB9-4FA2-92CF-83A5D3C9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4E024-BE8D-47BD-98F4-2F18FF32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C0486-6B5E-4029-A16D-E13C11CB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D34FB-02CC-42DF-974A-A3DBA3E2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0EDAD-300C-4399-83A0-6884C930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B7094-501D-477D-AC4B-D95D70AD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B3324-BFED-4A32-A22B-E6653B3B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33629-A22A-4C29-9D8A-150CFA96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2D67F-E497-440C-A154-6FCC6703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E673A-DB62-4B3A-944C-F7FED592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AB8-88BB-4679-81D3-0D7575EF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ED2A5-EA42-4E23-AADE-8C933F62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D3511-CEB8-4B2E-ABE7-54E04C94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7F6D5-E4A3-4A83-AA37-D6D11831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3B554-2335-4DFA-92F3-42133839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76D4A-A252-4E10-BDF7-275E57C9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5A834-5D12-4C72-B184-5F24AA3A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40814-FA22-45BB-B67D-7BAD7C76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DEBA2-0CB9-42AE-B0D9-A22BD72D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D8E31-CBFE-49C6-A443-C092E1B3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B767ED-BC92-4A74-BD5F-20059F1E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8EA-A761-4BD7-B2E7-715C5955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F94E7F-CAB2-4F26-A8A3-C8AA124E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536658-A2F3-42FC-9D79-7AD2D440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50EFFD-5CBD-4BB6-AD16-BE0C20D7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168B86-4E7F-406C-89B2-CE4DEF20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ED70EC-209E-4A90-9CEB-6D140B1A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AED991-E65F-47B4-AE99-4BA61EC0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21D878-166D-485E-9786-6E29DD48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DA501A-BA41-4A83-904A-E5BBDACA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1FD4CE-867C-4985-9B3F-C00BC16E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7AA98-48EE-4A0F-A6C1-04A9C700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8F4-7869-4757-A346-1FE82134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9F1A70-0FF0-4246-AF15-97C88BFC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CFA84-67D9-4F6F-BFAE-D808F417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13C4E-0E01-46FF-9391-7039AA34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AFE85-3352-470C-AAD2-E8F82691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12D5F-48C7-4521-B185-B383B2E0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27AA4-D50D-4BD3-922E-CEF280F9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35185-F86A-4D1E-8CE0-1AB9D811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5E18A-5A8E-42A6-845B-3632A756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3BE84-9A15-46E5-8825-91050261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8345F-1982-4A94-A647-709E9EE9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3C3-F653-40A2-9082-11418889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D576C-E42F-448E-AF6D-D1B12985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B3479-0186-4C5D-A168-1EE862D1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116B3-DE19-4DE0-ADDB-721E792F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5D9A4-3A3B-408F-A53E-C91BBF6F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7EA91-5EC3-4993-9C30-CCFA24E0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736BB-25AC-412D-8A08-33AE1E57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591B6-3B4D-4011-80F5-2A64212E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00DDC-19E3-497F-B155-9BBD65D4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8C939-113F-4C19-BAEA-75EF32DF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6CA2D-A0F4-4E36-9ED3-1E9ACF28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0B34-1803-4D55-BD56-9FA63BC2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67B60-9C43-4C1A-A0C0-6032E888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81352-0749-44F0-BBB6-A1DA963D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A57DE-08B5-4B51-A783-860F7211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768AA-BDCB-4DCF-9068-DA8ED214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C5772-F125-4A16-B20F-383C8DE6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73F92-2F44-42E0-BE15-C93C3247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DED3A-4018-4BAF-B78C-C2F03EAB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A5E88-1E8D-4A34-B104-3495C9A8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57347-466A-4E23-BFC8-957DEC08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9A42D-5DFD-4FEC-870F-4B99BA41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8DAB-DCED-42AB-AA23-EDCB2999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29043-2E1B-42E9-A887-22F204F9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D7629-3575-4F88-88DF-9C25F1BC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329E4-3008-4979-A07B-80E8928E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D89DC-1612-4806-9294-A8256658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2539C-AD7B-4580-882B-E9A0EFAB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11892-4260-4AA8-BDDC-F1550612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C0DB7-39C9-4F64-9D75-BE74BD58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30214-1EBF-4FEA-9FBB-B2F679FE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C1AFE-1378-4926-874F-E46CB376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C38AC-0D1B-4FEF-A66E-EA1C0343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83C1-7DC6-4B9B-9D35-3011CCFE8AA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659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660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7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674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678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682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686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690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ACCD-51AC-462E-891F-1E4E4391784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74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4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4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4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75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5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5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6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7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7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78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78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78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79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80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81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2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2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83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83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83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84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4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61FB-EFC6-42B6-9232-61F2B5002DF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91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91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92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2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2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2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2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3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3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3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3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4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4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4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5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5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5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6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6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6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6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7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7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7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8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8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98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99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99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99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00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00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00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01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01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1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1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2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2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02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02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03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E19A-5D0F-497B-8313-4B414559F0D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91C6-EE2B-4488-8CFE-8C035A8848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1F54-861B-4B63-B283-4BD33420E4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D3A1-42F3-4AF6-8E1B-E4FFAE7FD70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8E82-F977-433B-B076-B6AE86EA9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8E27-0B25-43F5-83D6-A9E746B63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F6AC-D60D-4E20-B79E-2E09DCD4E4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27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F5DE-D923-46D9-871E-B4AB6C9C1A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3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8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8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9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2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87FA-E8F1-404C-8D4C-46F11BD7AF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8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8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9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0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0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2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CD0D-30F8-47B4-8A93-1FE5AE09ED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57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77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582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88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1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2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596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00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90A8-57DD-4CBA-AAF6-15324AF06D2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tributul advervial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rin ce se exprima atributul adverbial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Atributul adverbial este exprimat pr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Adverb de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Adverb de ti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Adverb de m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Atributul adverbial raspunde la intreba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rea </a:t>
            </a: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c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tributul adverbial de lo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ributul adverbial de loc exprima locul unde se petreceo actiune sau exista o stare.Exempl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a suparat de galagia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 afa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tributul adverbial de timp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tributul adverbial de timp exprima timpul in care se savarseste o actiune sau exista o stare.Exemplu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sa erau iernile </a:t>
            </a:r>
            <a:r>
              <a:rPr b="0" i="1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de altadat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Comic Sans MS"/>
              </a:rPr>
              <a:t>Atributul adverbial de mod arata felul desfasurarii actiunii, al existentei starii sau al posedarii insusirii.Exemplu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Comic Sans MS"/>
              </a:rPr>
              <a:t>Era </a:t>
            </a:r>
            <a:r>
              <a:rPr b="1" i="1" lang="en-US" sz="3000" spc="-1" strike="noStrike" u="sng">
                <a:solidFill>
                  <a:srgbClr val="660066"/>
                </a:solidFill>
                <a:uFillTx/>
                <a:latin typeface="Comic Sans MS"/>
              </a:rPr>
              <a:t>mai suparat</a:t>
            </a:r>
            <a:r>
              <a:rPr b="1" lang="en-US" sz="3000" spc="-1" strike="noStrike">
                <a:solidFill>
                  <a:srgbClr val="660066"/>
                </a:solidFill>
                <a:latin typeface="Comic Sans MS"/>
              </a:rPr>
              <a:t> ca data trecurt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Verdana"/>
              </a:rPr>
              <a:t>Atributul adverbial de m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 txBox="1"/>
          <p:nvPr/>
        </p:nvSpPr>
        <p:spPr>
          <a:xfrm>
            <a:off x="2268360" y="189000"/>
            <a:ext cx="5172120" cy="134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erlin Sans FB"/>
              </a:rPr>
              <a:t>Observatii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erlin Sans FB"/>
              <a:ea typeface="Berlin Sans FB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Atributul adverbial: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Verdana"/>
              </a:rPr>
              <a:t>Sta intotdeauna dupa cuvantul determinat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Verdana"/>
              </a:rPr>
              <a:t>Este insotit de obicei de prepozitii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Verdana"/>
              </a:rPr>
              <a:t>Nu se desparte prin virgula de substantivul determina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78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78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838080" y="1197000"/>
            <a:ext cx="76932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Arial Black"/>
              </a:rPr>
              <a:t>Acest proiect a fost realizat de eleva Miron Daniela din cls V-a B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7:53:02Z</dcterms:created>
  <dc:creator>user</dc:creator>
  <dc:description/>
  <dc:language>en-US</dc:language>
  <cp:lastModifiedBy>user</cp:lastModifiedBy>
  <dcterms:modified xsi:type="dcterms:W3CDTF">2011-05-11T18:28:34Z</dcterms:modified>
  <cp:revision>2</cp:revision>
  <dc:subject/>
  <dc:title>Atributul advervial</dc:title>
</cp:coreProperties>
</file>